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10.jpeg" ContentType="image/jpeg"/>
  <Override PartName="/ppt/media/image7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CAE-73FA-4970-A159-3454E8A9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A54-CB35-4CDE-95FE-F664861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833-B877-479A-ADA1-2153ECD5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FD3-20D5-4C0D-AD7B-229880ED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EE6E-0116-4F9C-B555-0C15949F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E8BB-53DE-42FB-9552-04D71A00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DE9F-0976-4CBC-80C8-88E13F5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9D07-3A1E-4574-AD4A-6D777714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F975-D177-4815-9EBB-A02E5E90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BDF-67F1-4F32-8030-B769B3B7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EA6C-55FB-4D04-9B37-E5637F2C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851-C109-4F1F-A7B2-19D74F37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86F4-9481-4729-9AD8-568A2538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420E-62CE-43C7-ACB6-C63364A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C579-C1EC-4F86-96AD-64855ACF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450F-6F3B-4F9A-9CF8-3EF764F0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BCA2-0955-4875-AA60-7A8EE75E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C61-DA97-45D0-B512-56399536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56B95-1A4F-46F3-AD59-8FCB57F4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D18A37-7517-44FE-8476-7A9132CB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D5DA9-75A5-48BC-8C76-68BA4F6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BF5-5879-4882-802F-EEF37F36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C4906-263C-44DA-BB9F-8A7E4D6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7E077E-3CD5-43FE-9FB8-013A2403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8BE34-9FDE-412A-8B46-25BE07E1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0250D-D7EE-48A8-917E-56D34A0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A53B1-9412-410D-8368-CA0C6EF2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A9465-00CE-4E3E-AE8D-1FFC3DD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65168-099C-419A-9087-5E09989F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643D1-81AA-46CC-A43A-D7ED8BF5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53566-AE00-4F74-887F-47978162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8F9-56AE-49F8-A07F-458FB93F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35A-0B5F-4092-8FAD-A11BA65E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6C5-8A92-462E-B0A1-00E0BE0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D6A-C86A-4587-969A-42E829C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1E0-2CCA-4D48-AF0D-E93E2B19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C40E-07DD-4BAA-9E2E-A144A6BA14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89C0-F01A-4903-8011-B388B8EF32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0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0" y="4156200"/>
            <a:ext cx="2771640" cy="2701800"/>
            <a:chOff x="0" y="4156200"/>
            <a:chExt cx="2771640" cy="2701800"/>
          </a:xfrm>
        </p:grpSpPr>
        <p:sp>
          <p:nvSpPr>
            <p:cNvPr id="110" name="Freeform 18"/>
            <p:cNvSpPr/>
            <p:nvPr/>
          </p:nvSpPr>
          <p:spPr>
            <a:xfrm>
              <a:off x="0" y="4228560"/>
              <a:ext cx="2771640" cy="26218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0" y="4156200"/>
              <a:ext cx="2399040" cy="270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0" y="4558680"/>
              <a:ext cx="2257560" cy="229176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0" y="4281120"/>
              <a:ext cx="2257560" cy="25693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2"/>
            <p:cNvSpPr/>
            <p:nvPr/>
          </p:nvSpPr>
          <p:spPr>
            <a:xfrm>
              <a:off x="270360" y="4630320"/>
              <a:ext cx="110880" cy="12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3"/>
            <p:cNvSpPr/>
            <p:nvPr/>
          </p:nvSpPr>
          <p:spPr>
            <a:xfrm>
              <a:off x="1987200" y="6229800"/>
              <a:ext cx="1188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1023120" y="4541400"/>
              <a:ext cx="155160" cy="17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9" descr="konglong2"/>
          <p:cNvPicPr/>
          <p:nvPr/>
        </p:nvPicPr>
        <p:blipFill>
          <a:blip r:embed="rId2"/>
          <a:stretch/>
        </p:blipFill>
        <p:spPr>
          <a:xfrm>
            <a:off x="73080" y="6068880"/>
            <a:ext cx="682560" cy="67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7"/>
          </p:nvPr>
        </p:nvSpPr>
        <p:spPr>
          <a:xfrm>
            <a:off x="3203640" y="6284880"/>
            <a:ext cx="29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单片微机原理及应用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1E19-2681-4910-BB54-772B1126E5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外遥控的单片机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为了降低电源功耗，遥控器脉宽调制的编码经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载波经二次调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解码时代码格式应以接收代码为准（接收代码与发射代码反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RC5_5"/>
          <p:cNvPicPr/>
          <p:nvPr/>
        </p:nvPicPr>
        <p:blipFill>
          <a:blip r:embed="rId1"/>
          <a:stretch/>
        </p:blipFill>
        <p:spPr>
          <a:xfrm>
            <a:off x="1116000" y="1486080"/>
            <a:ext cx="7488360" cy="49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17560" y="604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C5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相对简单一些：</a:t>
            </a:r>
            <a:br>
              <a:rPr sz="36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面的遥控器地址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，键值是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0D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的波形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82720" y="2444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反相后的波形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RC5_4"/>
          <p:cNvPicPr/>
          <p:nvPr/>
        </p:nvPicPr>
        <p:blipFill>
          <a:blip r:embed="rId1"/>
          <a:stretch/>
        </p:blipFill>
        <p:spPr>
          <a:xfrm>
            <a:off x="826920" y="1270080"/>
            <a:ext cx="7777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编码规则：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C5_2"/>
          <p:cNvPicPr/>
          <p:nvPr/>
        </p:nvPicPr>
        <p:blipFill>
          <a:blip r:embed="rId1"/>
          <a:stretch/>
        </p:blipFill>
        <p:spPr>
          <a:xfrm>
            <a:off x="1332000" y="2421000"/>
            <a:ext cx="61927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得到一组数字：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1010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001101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RC5_1"/>
          <p:cNvPicPr/>
          <p:nvPr/>
        </p:nvPicPr>
        <p:blipFill>
          <a:blip r:embed="rId1"/>
          <a:stretch/>
        </p:blipFill>
        <p:spPr>
          <a:xfrm>
            <a:off x="1908000" y="2781360"/>
            <a:ext cx="461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位是起始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是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位是场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常为逻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扩展模式下它将最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命令代码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代码（高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这样可以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扩充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键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位是控制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在每按下了一个键后翻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就可以区分一个键到底是一直按着没松手还是松手后重复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所示是同一按键重复按两次所得波形，只有第三位是相反的逻辑，其它的位逻辑都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市场上常用红外一体化接收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7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其后是五个系统地址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11010=1A</a:t>
            </a:r>
            <a:br>
              <a:rPr sz="3600"/>
            </a:b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最后是六个命令位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:001101=0D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RC5_7"/>
          <p:cNvPicPr/>
          <p:nvPr/>
        </p:nvPicPr>
        <p:blipFill>
          <a:blip r:embed="rId1"/>
          <a:stretch/>
        </p:blipFill>
        <p:spPr>
          <a:xfrm>
            <a:off x="2050920" y="2349360"/>
            <a:ext cx="4410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的解码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外遥控信号的接收，可以使用一种集红外接收和放大于一体的一体化红外线接收器，无需任何外接元件，就可以输出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平兼容的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365360" y="2707920"/>
            <a:ext cx="4383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引脚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电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c 2.7~ 5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收距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 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载波频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8k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 Vin=0V Vcc=5V 0.2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电平输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H Vcc=5V 4.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rcRect l="0" t="0" r="46837" b="0"/>
          <a:stretch/>
        </p:blipFill>
        <p:spPr>
          <a:xfrm>
            <a:off x="1549440" y="2492280"/>
            <a:ext cx="1942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10720" y="-258840"/>
            <a:ext cx="78138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一、红外线概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08" name="Picture 4" descr="8cf0d5130a914130dc54017d"/>
          <p:cNvPicPr/>
          <p:nvPr/>
        </p:nvPicPr>
        <p:blipFill>
          <a:blip r:embed="rId1"/>
          <a:stretch/>
        </p:blipFill>
        <p:spPr>
          <a:xfrm>
            <a:off x="1403280" y="836640"/>
            <a:ext cx="7272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单片机的连接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1042920" y="2852640"/>
          <a:ext cx="810108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81010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6"/>
          <p:cNvSpPr/>
          <p:nvPr/>
        </p:nvSpPr>
        <p:spPr>
          <a:xfrm>
            <a:off x="1384200" y="5954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状态（空闲状态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脚输出为高电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69" name="Object 4" descr=""/>
          <p:cNvPicPr/>
          <p:nvPr/>
        </p:nvPicPr>
        <p:blipFill>
          <a:blip r:embed="rId1"/>
          <a:stretch/>
        </p:blipFill>
        <p:spPr>
          <a:xfrm>
            <a:off x="-1619280" y="5013360"/>
            <a:ext cx="4678560" cy="234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S_1838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电平格式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注意：接收代码与发射代码反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468360" y="4735440"/>
            <a:ext cx="6048360" cy="22226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Object 8" descr=""/>
          <p:cNvPicPr/>
          <p:nvPr/>
        </p:nvPicPr>
        <p:blipFill>
          <a:blip r:embed="rId3"/>
          <a:stretch/>
        </p:blipFill>
        <p:spPr>
          <a:xfrm>
            <a:off x="2700360" y="4653000"/>
            <a:ext cx="705312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1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10" descr=""/>
          <p:cNvPicPr/>
          <p:nvPr/>
        </p:nvPicPr>
        <p:blipFill>
          <a:blip r:embed="rId4"/>
          <a:stretch/>
        </p:blipFill>
        <p:spPr>
          <a:xfrm>
            <a:off x="1619280" y="2889360"/>
            <a:ext cx="4896000" cy="1979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12" descr=""/>
          <p:cNvPicPr/>
          <p:nvPr/>
        </p:nvPicPr>
        <p:blipFill>
          <a:blip r:embed="rId5"/>
          <a:stretch/>
        </p:blipFill>
        <p:spPr>
          <a:xfrm>
            <a:off x="3706920" y="2924280"/>
            <a:ext cx="5905440" cy="1846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6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Object 15" descr=""/>
          <p:cNvPicPr/>
          <p:nvPr/>
        </p:nvPicPr>
        <p:blipFill>
          <a:blip r:embed="rId6"/>
          <a:stretch/>
        </p:blipFill>
        <p:spPr>
          <a:xfrm>
            <a:off x="-1762200" y="3213000"/>
            <a:ext cx="48182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、收编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826920" y="3060720"/>
            <a:ext cx="8137800" cy="3247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13"/>
          <p:cNvPicPr/>
          <p:nvPr/>
        </p:nvPicPr>
        <p:blipFill>
          <a:blip r:embed="rId2"/>
          <a:stretch/>
        </p:blipFill>
        <p:spPr>
          <a:xfrm>
            <a:off x="8604360" y="6345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码的解码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红外一体化接收头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到的（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S_1838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输出的）数据帧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865080" y="3816360"/>
            <a:ext cx="831528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836360" y="6021360"/>
            <a:ext cx="41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注意：数据输出低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位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在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1995120" y="1054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971640" y="2643120"/>
            <a:ext cx="758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码的关键是如何识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位的定义可以发现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均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低电平开始，不同的是高电平的宽度不同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ms,“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8m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所以必须根据高电平的宽度区别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116000" y="2826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解码过程具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初始化外部中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为下降沿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入外部中断服务程序，关闭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引导码进行判断。如果引导码正确，准备接收下面的一     帧遥控数据，以查询方式判断遥控的数据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非引导码，则退出外部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2088360" y="1270080"/>
            <a:ext cx="46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遥控信号的解码算法及编程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116000" y="31917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先后依次接收地址码、地址反码、数据码、数据反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接收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数据时，说明一帧数据接收完毕。比较数据码和数据反码，若数据码取反后与数据反码不同，则表示为无效数据，应放弃本次接收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开启外部中断，准备下一次遥控接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询方式与上述过程中的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致，这里不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792720" y="370080"/>
            <a:ext cx="7698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4797360"/>
            <a:ext cx="7777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可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T0(TCON.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选择其为低电平有效还是下降沿有效。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检测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3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引脚上出现有效的中断信号时，中断标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IE0(TCON.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申请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4349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01680" y="1752480"/>
            <a:ext cx="4191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10" descr=""/>
          <p:cNvPicPr/>
          <p:nvPr/>
        </p:nvPicPr>
        <p:blipFill>
          <a:blip r:embed="rId1"/>
          <a:stretch/>
        </p:blipFill>
        <p:spPr>
          <a:xfrm>
            <a:off x="5724360" y="5738760"/>
            <a:ext cx="136872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Oval 4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39640" y="620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时器工作方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计数位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，组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ject 8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632720" cy="31795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539640" y="5661000"/>
            <a:ext cx="5256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个数与计数初值的关系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17560" y="685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二、红外遥控技术简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无线、非接触控制技术，体积小，功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低，功能强，成本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用：１、家用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２、玩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业设备（高压、辐射、有毒、粉尘等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数器应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始化程序应完成如下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工作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初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将其写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断方式时，则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赋值，开放中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位，启动定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数器定时或计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878120" y="380880"/>
            <a:ext cx="538776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实验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片机最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00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接收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LED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指示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619280" y="2357280"/>
            <a:ext cx="59054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ISP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在线编程接口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S232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通讯电路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15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红外遥控系统组成及编码分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射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盘、编码调制、红外发送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成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收部分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电转换放大器、解调、解码电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编码分类：主要分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340000" y="256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格式的特征：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kH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载波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引导码间隔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s + 4.5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客户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数据代码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取反的数据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波形是从红外接收头上得到的波形：（调制信号转变成高低电平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856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856944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帧结构（组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720720" y="2924280"/>
          <a:ext cx="94680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924280"/>
                    <a:ext cx="94680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EC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码编码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-1187280" y="3284640"/>
          <a:ext cx="6619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7280" y="3284640"/>
                    <a:ext cx="6619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2050920" y="3384720"/>
          <a:ext cx="771552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384720"/>
                    <a:ext cx="77155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8" descr="12"/>
          <p:cNvPicPr/>
          <p:nvPr/>
        </p:nvPicPr>
        <p:blipFill>
          <a:blip r:embed="rId5"/>
          <a:stretch/>
        </p:blipFill>
        <p:spPr>
          <a:xfrm>
            <a:off x="8317080" y="6021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48:08Z</dcterms:created>
  <dc:creator>User</dc:creator>
  <dc:description/>
  <dc:language>en-US</dc:language>
  <cp:lastModifiedBy>微软用户</cp:lastModifiedBy>
  <cp:lastPrinted>1899-12-30T00:00:00Z</cp:lastPrinted>
  <dcterms:modified xsi:type="dcterms:W3CDTF">2012-02-08T18:11:46Z</dcterms:modified>
  <cp:revision>26</cp:revision>
  <dc:subject/>
  <dc:title>红外遥控的单片机解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