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10.jpeg" ContentType="image/jpeg"/>
  <Override PartName="/ppt/media/image7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5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7E1-FEBE-4AF3-AEE7-5FD9A8A8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D69-1FEB-4FC4-90EB-B7F42C49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1B3-A571-41B5-B6AC-8DE39FFF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8B2-C566-44F5-BC10-7483C8E2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79BD-8B4D-4DC3-B0CC-79E3DD8F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F3AD-856A-415A-A46F-88B71D8F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E25C-F01F-482F-BFD0-877C93E7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AB7D-9E85-4FA6-A4D4-4F0EF722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97B7-D4B3-4348-8137-EDF44DF6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BB41-47ED-4A35-AC8D-5DA62F7F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57DD-D284-4D42-BFAD-39C5F8A9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B6E-A1A5-4CB9-9812-8D5033E9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D23C-65A6-44C0-A0FE-06F2331A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2E4B-BEEE-492B-AE28-D732A4CF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86A9-CE8A-480B-9A2C-89D02961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C95D-E754-4A59-8A3C-F2DD70DB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C27F-84E5-44AC-BA5A-6BB852F6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BC0-91C2-481B-A07E-7812B297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04F5D-D43E-4FFE-933C-A835166F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0799BC-F460-4882-9A91-399A33E9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F9E8F3-FD11-4263-B9A0-F2ED242D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7F7-39D1-495F-8F72-A8FFBFF9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7D9524-7ADD-4947-A9B0-CCC574D1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A3A06-F039-4ADA-9713-73E01399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D24D8A-5378-49BF-9680-5C7C5A0C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563DD-1108-4B9A-819F-16EA7348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17F13B-52D0-4286-8D44-DBA732FB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03C908-8947-4A27-B485-76F984C5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8A297-0382-429D-A427-393EE54D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536A7-2ADE-42DB-A7AF-2B960D07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7A37D-5FE7-4E0D-8FAE-C22AADBB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3A5-566B-4D66-BF1A-5FF5A476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A32-08F6-455B-A32A-EFE5B54F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E57-3337-445E-AE80-2DE8448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682-1A2C-472F-B428-D75D7DC9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739-DDD0-400F-9EC1-F08ED00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AE05-5215-4527-B0E9-0619AAD535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520D-8328-4479-80D3-1FC5C44589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0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0" y="4156200"/>
            <a:ext cx="2771640" cy="2701800"/>
            <a:chOff x="0" y="4156200"/>
            <a:chExt cx="2771640" cy="2701800"/>
          </a:xfrm>
        </p:grpSpPr>
        <p:sp>
          <p:nvSpPr>
            <p:cNvPr id="110" name="Freeform 18"/>
            <p:cNvSpPr/>
            <p:nvPr/>
          </p:nvSpPr>
          <p:spPr>
            <a:xfrm>
              <a:off x="0" y="4228560"/>
              <a:ext cx="2771640" cy="26218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9"/>
            <p:cNvSpPr/>
            <p:nvPr/>
          </p:nvSpPr>
          <p:spPr>
            <a:xfrm>
              <a:off x="0" y="4156200"/>
              <a:ext cx="2399040" cy="270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0" y="4558680"/>
              <a:ext cx="2257560" cy="229176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0" y="4281120"/>
              <a:ext cx="2257560" cy="25693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2"/>
            <p:cNvSpPr/>
            <p:nvPr/>
          </p:nvSpPr>
          <p:spPr>
            <a:xfrm>
              <a:off x="270360" y="4630320"/>
              <a:ext cx="110880" cy="12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3"/>
            <p:cNvSpPr/>
            <p:nvPr/>
          </p:nvSpPr>
          <p:spPr>
            <a:xfrm>
              <a:off x="1987200" y="6229800"/>
              <a:ext cx="11880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1023120" y="4541400"/>
              <a:ext cx="155160" cy="17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9" descr="konglong2"/>
          <p:cNvPicPr/>
          <p:nvPr/>
        </p:nvPicPr>
        <p:blipFill>
          <a:blip r:embed="rId2"/>
          <a:stretch/>
        </p:blipFill>
        <p:spPr>
          <a:xfrm>
            <a:off x="73080" y="6068880"/>
            <a:ext cx="682560" cy="67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7"/>
          </p:nvPr>
        </p:nvSpPr>
        <p:spPr>
          <a:xfrm>
            <a:off x="3203640" y="6284880"/>
            <a:ext cx="295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单片微机原理及应用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F548-8F96-4586-93BE-BC4FDFD3D6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外遥控的单片机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为了降低电源功耗，遥控器脉宽调制的编码经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载波经二次调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解码时代码格式应以接收代码为准（接收代码与发射代码反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RC5_5"/>
          <p:cNvPicPr/>
          <p:nvPr/>
        </p:nvPicPr>
        <p:blipFill>
          <a:blip r:embed="rId1"/>
          <a:stretch/>
        </p:blipFill>
        <p:spPr>
          <a:xfrm>
            <a:off x="1116000" y="1486080"/>
            <a:ext cx="7488360" cy="49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17560" y="604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C5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相对简单一些：</a:t>
            </a:r>
            <a:br>
              <a:rPr sz="36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下面的遥控器地址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A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，键值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0D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的波形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82720" y="2444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反相后的波形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RC5_4"/>
          <p:cNvPicPr/>
          <p:nvPr/>
        </p:nvPicPr>
        <p:blipFill>
          <a:blip r:embed="rId1"/>
          <a:stretch/>
        </p:blipFill>
        <p:spPr>
          <a:xfrm>
            <a:off x="826920" y="1270080"/>
            <a:ext cx="7777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规则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RC5_2"/>
          <p:cNvPicPr/>
          <p:nvPr/>
        </p:nvPicPr>
        <p:blipFill>
          <a:blip r:embed="rId1"/>
          <a:stretch/>
        </p:blipFill>
        <p:spPr>
          <a:xfrm>
            <a:off x="1332000" y="2421000"/>
            <a:ext cx="619272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得到一组数字：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001101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RC5_1"/>
          <p:cNvPicPr/>
          <p:nvPr/>
        </p:nvPicPr>
        <p:blipFill>
          <a:blip r:embed="rId1"/>
          <a:stretch/>
        </p:blipFill>
        <p:spPr>
          <a:xfrm>
            <a:off x="1908000" y="2781360"/>
            <a:ext cx="461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位是起始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是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位是场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为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扩展模式下它将最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命令代码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代码（高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这样可以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位是控制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在每按下了一个键后翻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就可以区分一个键到底是一直按着没松手还是松手后重复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所示是同一按键重复按两次所得波形，只有第三位是相反的逻辑，其它的位逻辑都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市场上常用红外一体化接收头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7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其后是五个系统地址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11010=1A</a:t>
            </a:r>
            <a:br>
              <a:rPr sz="3600"/>
            </a:b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最后是六个命令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001101=0D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RC5_7"/>
          <p:cNvPicPr/>
          <p:nvPr/>
        </p:nvPicPr>
        <p:blipFill>
          <a:blip r:embed="rId1"/>
          <a:stretch/>
        </p:blipFill>
        <p:spPr>
          <a:xfrm>
            <a:off x="2050920" y="2349360"/>
            <a:ext cx="4410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的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外遥控信号的接收，可以使用一种集红外接收和放大于一体的一体化红外线接收器，无需任何外接元件，就可以输出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平兼容的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365360" y="2707920"/>
            <a:ext cx="438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引脚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电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 2.7~ 5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收距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 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载波频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8k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 Vin=0V Vcc=5V 0.2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H Vcc=5V 4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rcRect l="0" t="0" r="46837" b="0"/>
          <a:stretch/>
        </p:blipFill>
        <p:spPr>
          <a:xfrm>
            <a:off x="1549440" y="2492280"/>
            <a:ext cx="1942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10720" y="-258840"/>
            <a:ext cx="78138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一、红外线概述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08" name="Picture 4" descr="8cf0d5130a914130dc54017d"/>
          <p:cNvPicPr/>
          <p:nvPr/>
        </p:nvPicPr>
        <p:blipFill>
          <a:blip r:embed="rId1"/>
          <a:stretch/>
        </p:blipFill>
        <p:spPr>
          <a:xfrm>
            <a:off x="1403280" y="836640"/>
            <a:ext cx="72723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单片机的连接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1042920" y="2852640"/>
          <a:ext cx="810108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852640"/>
                    <a:ext cx="810108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6"/>
          <p:cNvSpPr/>
          <p:nvPr/>
        </p:nvSpPr>
        <p:spPr>
          <a:xfrm>
            <a:off x="1384200" y="595476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状态（空闲状态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脚输出为高电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69" name="Object 4" descr=""/>
          <p:cNvPicPr/>
          <p:nvPr/>
        </p:nvPicPr>
        <p:blipFill>
          <a:blip r:embed="rId1"/>
          <a:stretch/>
        </p:blipFill>
        <p:spPr>
          <a:xfrm>
            <a:off x="-1619280" y="5013360"/>
            <a:ext cx="4678560" cy="2344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电平格式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注意：接收代码与发射代码反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Object 6" descr=""/>
          <p:cNvPicPr/>
          <p:nvPr/>
        </p:nvPicPr>
        <p:blipFill>
          <a:blip r:embed="rId2"/>
          <a:stretch/>
        </p:blipFill>
        <p:spPr>
          <a:xfrm>
            <a:off x="468360" y="4735440"/>
            <a:ext cx="6048360" cy="2222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Object 8" descr=""/>
          <p:cNvPicPr/>
          <p:nvPr/>
        </p:nvPicPr>
        <p:blipFill>
          <a:blip r:embed="rId3"/>
          <a:stretch/>
        </p:blipFill>
        <p:spPr>
          <a:xfrm>
            <a:off x="2700360" y="4653000"/>
            <a:ext cx="7053120" cy="2214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1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ject 10" descr=""/>
          <p:cNvPicPr/>
          <p:nvPr/>
        </p:nvPicPr>
        <p:blipFill>
          <a:blip r:embed="rId4"/>
          <a:stretch/>
        </p:blipFill>
        <p:spPr>
          <a:xfrm>
            <a:off x="1619280" y="2889360"/>
            <a:ext cx="4896000" cy="1979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ject 12" descr=""/>
          <p:cNvPicPr/>
          <p:nvPr/>
        </p:nvPicPr>
        <p:blipFill>
          <a:blip r:embed="rId5"/>
          <a:stretch/>
        </p:blipFill>
        <p:spPr>
          <a:xfrm>
            <a:off x="3706920" y="2924280"/>
            <a:ext cx="5905440" cy="1846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6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Object 15" descr=""/>
          <p:cNvPicPr/>
          <p:nvPr/>
        </p:nvPicPr>
        <p:blipFill>
          <a:blip r:embed="rId6"/>
          <a:stretch/>
        </p:blipFill>
        <p:spPr>
          <a:xfrm>
            <a:off x="-1762200" y="3213000"/>
            <a:ext cx="481824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如：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、收编码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826920" y="3060720"/>
            <a:ext cx="8137800" cy="3247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13"/>
          <p:cNvPicPr/>
          <p:nvPr/>
        </p:nvPicPr>
        <p:blipFill>
          <a:blip r:embed="rId2"/>
          <a:stretch/>
        </p:blipFill>
        <p:spPr>
          <a:xfrm>
            <a:off x="8604360" y="6345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到的（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输出的）数据帧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865080" y="3816360"/>
            <a:ext cx="8315280" cy="1730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836360" y="6021360"/>
            <a:ext cx="41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数据输出低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1995120" y="1054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971640" y="2643120"/>
            <a:ext cx="758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码的关键是如何识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位的定义可以发现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均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低电平开始，不同的是高电平的宽度不同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,“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8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所以必须根据高电平的宽度区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1116000" y="2826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解码过程具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初始化外部中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或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为下降沿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入外部中断服务程序，关闭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引导码进行判断。如果引导码正确，准备接收下面的一     帧遥控数据，以查询方式判断遥控的数据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如果非引导码，则退出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116000" y="3191760"/>
            <a:ext cx="65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先后依次接收地址码、地址反码、数据码、数据反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当接收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数据时，说明一帧数据接收完毕。比较数据码和数据反码，若数据码取反后与数据反码不同，则表示为无效数据，应放弃本次接收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开启外部中断，准备下一次遥控接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询方式与上述过程中的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一致，这里不再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792720" y="370080"/>
            <a:ext cx="76982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95280" y="4797360"/>
            <a:ext cx="7777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可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T0(TCON.0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选择其为低电平有效还是下降沿有效。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检测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引脚上出现有效的中断信号时，中断标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E0(TCON.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申请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Object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4349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01680" y="1752480"/>
            <a:ext cx="419112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ctangle 10" descr=""/>
          <p:cNvPicPr/>
          <p:nvPr/>
        </p:nvPicPr>
        <p:blipFill>
          <a:blip r:embed="rId1"/>
          <a:stretch/>
        </p:blipFill>
        <p:spPr>
          <a:xfrm>
            <a:off x="5724360" y="5738760"/>
            <a:ext cx="136872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Oval 4"/>
          <p:cNvSpPr/>
          <p:nvPr/>
        </p:nvSpPr>
        <p:spPr>
          <a:xfrm>
            <a:off x="3809880" y="4724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539640" y="62064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时器工作方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计数位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组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Object 8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632720" cy="31795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539640" y="5661000"/>
            <a:ext cx="5256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个数与计数初值的关系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17560" y="685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二、红外遥控技术简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无线、非接触控制技术，体积小，功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低，功能强，成本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用：１、家用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２、玩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工业设备（高压、辐射、有毒、粉尘等环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定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数器应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始化程序应完成如下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以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工作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初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将其写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断方式时，则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开放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位，启动定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定时或计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878120" y="380880"/>
            <a:ext cx="5387760" cy="564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实验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片机最小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00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示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接收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248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ED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指示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619280" y="2357280"/>
            <a:ext cx="590544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ISP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在线编程接口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S232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通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15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系统组成及编码分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射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盘、编码调制、红外发送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成：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电转换放大器、解调、解码电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编码分类：主要分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340000" y="256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格式的特征：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 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载波频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引导码间隔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s + 4.5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客户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数据代码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取反的数据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波形是从红外接收头上得到的波形：（调制信号转变成高低电平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856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856944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帧结构（组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720720" y="2924280"/>
          <a:ext cx="94680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2924280"/>
                    <a:ext cx="94680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进制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-1187280" y="3284640"/>
          <a:ext cx="6619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7280" y="3284640"/>
                    <a:ext cx="6619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6"/>
          <p:cNvGraphicFramePr/>
          <p:nvPr/>
        </p:nvGraphicFramePr>
        <p:xfrm>
          <a:off x="2050920" y="3384720"/>
          <a:ext cx="771552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384720"/>
                    <a:ext cx="771552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8" descr="12"/>
          <p:cNvPicPr/>
          <p:nvPr/>
        </p:nvPicPr>
        <p:blipFill>
          <a:blip r:embed="rId5"/>
          <a:stretch/>
        </p:blipFill>
        <p:spPr>
          <a:xfrm>
            <a:off x="8317080" y="602136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8:48:08Z</dcterms:created>
  <dc:creator>User</dc:creator>
  <dc:description/>
  <dc:language>en-US</dc:language>
  <cp:lastModifiedBy>微软用户</cp:lastModifiedBy>
  <cp:lastPrinted>1899-12-30T00:00:00Z</cp:lastPrinted>
  <dcterms:modified xsi:type="dcterms:W3CDTF">2012-02-08T18:11:46Z</dcterms:modified>
  <cp:revision>26</cp:revision>
  <dc:subject/>
  <dc:title>红外遥控的单片机解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