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10.jpeg" ContentType="image/jpeg"/>
  <Override PartName="/ppt/media/image7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E18-8CD4-474C-930C-416559A9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D6E-F12F-4E0E-9FB3-63969725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E1B-AB20-4E95-BEDF-64C11D70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646-B565-4621-B2FE-9F867C7C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FF67-7F8A-4A02-A447-66AC4512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C9E8-DB9B-4F87-98AA-517E64C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47A7-A51F-4BEF-8489-78B33E33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C40D-52EA-4EEE-9A30-936B78A1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D90E-2FC7-4872-B2E7-D4DED71B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CE01-29A0-4F26-8C20-FCA9B161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3259-3037-4AA0-92BF-8EF00F6E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7B8-3C68-4A29-93BE-A56EB675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CF64-649E-401B-AA6C-1AF25E2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746E-E894-4167-8C18-C394BB0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631B-62B6-4A36-86DE-EDCC0B7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3C90-7D0A-47F8-A113-CBC6DDE2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12DC-7104-4EF5-A847-D65B7514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087-99E4-4305-A93B-4CAD9F55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BFF6D-307D-4B21-81BF-C0ACE04D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FEBC5-8592-4FD3-9D3E-0B8922D8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BF8F9-2AB0-4475-9DD1-29AE5CF5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9F9-3190-4679-AE8C-C8C22AA4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62F32-7C90-433E-8098-9373B242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8C49A-D053-4B98-96FE-2793C81E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E91CE-0B8B-4CB7-8FBA-E90F7441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14CEE-EA7A-4F3F-A322-5FD4066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9A07C-CDEA-4A8D-BBD6-3C2C31C7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7BCCE-31B6-44E9-88FB-B7CD36D3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9052F2-C25E-4DF0-B513-D04CB5B9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57C90-93EE-4E84-9FF6-16E3F1BC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23ECD-2A0A-47A7-A3BA-C74AD3CE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045-7F9F-4EC9-97AF-A2ACED42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639-506F-4554-B066-1E3F8791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4CA-6635-4511-9BC9-792BB14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B57-95D0-4884-AFE6-12475103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88B-C11D-4F4B-B4FB-69D38EB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709E-7E6E-489D-A73C-CB52256694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910C-1E72-4A67-8082-7698273122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0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0" y="4156200"/>
            <a:ext cx="2771640" cy="2701800"/>
            <a:chOff x="0" y="4156200"/>
            <a:chExt cx="2771640" cy="2701800"/>
          </a:xfrm>
        </p:grpSpPr>
        <p:sp>
          <p:nvSpPr>
            <p:cNvPr id="110" name="Freeform 18"/>
            <p:cNvSpPr/>
            <p:nvPr/>
          </p:nvSpPr>
          <p:spPr>
            <a:xfrm>
              <a:off x="0" y="4228560"/>
              <a:ext cx="2771640" cy="26218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0" y="4156200"/>
              <a:ext cx="2399040" cy="270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0" y="4558680"/>
              <a:ext cx="2257560" cy="229176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0" y="4281120"/>
              <a:ext cx="2257560" cy="25693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2"/>
            <p:cNvSpPr/>
            <p:nvPr/>
          </p:nvSpPr>
          <p:spPr>
            <a:xfrm>
              <a:off x="270360" y="4630320"/>
              <a:ext cx="110880" cy="12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3"/>
            <p:cNvSpPr/>
            <p:nvPr/>
          </p:nvSpPr>
          <p:spPr>
            <a:xfrm>
              <a:off x="1987200" y="6229800"/>
              <a:ext cx="1188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1023120" y="4541400"/>
              <a:ext cx="155160" cy="17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9" descr="konglong2"/>
          <p:cNvPicPr/>
          <p:nvPr/>
        </p:nvPicPr>
        <p:blipFill>
          <a:blip r:embed="rId2"/>
          <a:stretch/>
        </p:blipFill>
        <p:spPr>
          <a:xfrm>
            <a:off x="73080" y="6068880"/>
            <a:ext cx="682560" cy="67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7"/>
          </p:nvPr>
        </p:nvSpPr>
        <p:spPr>
          <a:xfrm>
            <a:off x="3203640" y="6284880"/>
            <a:ext cx="29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单片微机原理及应用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FCBF-BD21-4BED-A451-67767C4F6F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外遥控的单片机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为了降低电源功耗，遥控器脉宽调制的编码经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载波经二次调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解码时代码格式应以接收代码为准（接收代码与发射代码反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RC5_5"/>
          <p:cNvPicPr/>
          <p:nvPr/>
        </p:nvPicPr>
        <p:blipFill>
          <a:blip r:embed="rId1"/>
          <a:stretch/>
        </p:blipFill>
        <p:spPr>
          <a:xfrm>
            <a:off x="1116000" y="1486080"/>
            <a:ext cx="7488360" cy="49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17560" y="604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C5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相对简单一些：</a:t>
            </a:r>
            <a:br>
              <a:rPr sz="36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面的遥控器地址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，键值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0D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的波形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82720" y="244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反相后的波形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RC5_4"/>
          <p:cNvPicPr/>
          <p:nvPr/>
        </p:nvPicPr>
        <p:blipFill>
          <a:blip r:embed="rId1"/>
          <a:stretch/>
        </p:blipFill>
        <p:spPr>
          <a:xfrm>
            <a:off x="826920" y="1270080"/>
            <a:ext cx="7777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规则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C5_2"/>
          <p:cNvPicPr/>
          <p:nvPr/>
        </p:nvPicPr>
        <p:blipFill>
          <a:blip r:embed="rId1"/>
          <a:stretch/>
        </p:blipFill>
        <p:spPr>
          <a:xfrm>
            <a:off x="1332000" y="2421000"/>
            <a:ext cx="61927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得到一组数字：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001101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RC5_1"/>
          <p:cNvPicPr/>
          <p:nvPr/>
        </p:nvPicPr>
        <p:blipFill>
          <a:blip r:embed="rId1"/>
          <a:stretch/>
        </p:blipFill>
        <p:spPr>
          <a:xfrm>
            <a:off x="1908000" y="2781360"/>
            <a:ext cx="461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位是起始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是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位是场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为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扩展模式下它将最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命令代码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代码（高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这样可以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位是控制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在每按下了一个键后翻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就可以区分一个键到底是一直按着没松手还是松手后重复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所示是同一按键重复按两次所得波形，只有第三位是相反的逻辑，其它的位逻辑都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市场上常用红外一体化接收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7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其后是五个系统地址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11010=1A</a:t>
            </a:r>
            <a:br>
              <a:rPr sz="3600"/>
            </a:b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最后是六个命令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001101=0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RC5_7"/>
          <p:cNvPicPr/>
          <p:nvPr/>
        </p:nvPicPr>
        <p:blipFill>
          <a:blip r:embed="rId1"/>
          <a:stretch/>
        </p:blipFill>
        <p:spPr>
          <a:xfrm>
            <a:off x="2050920" y="2349360"/>
            <a:ext cx="4410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的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外遥控信号的接收，可以使用一种集红外接收和放大于一体的一体化红外线接收器，无需任何外接元件，就可以输出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平兼容的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365360" y="2707920"/>
            <a:ext cx="438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引脚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电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 2.7~ 5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收距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 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载波频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8k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 Vin=0V Vcc=5V 0.2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H Vcc=5V 4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rcRect l="0" t="0" r="46837" b="0"/>
          <a:stretch/>
        </p:blipFill>
        <p:spPr>
          <a:xfrm>
            <a:off x="1549440" y="2492280"/>
            <a:ext cx="1942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10720" y="-258840"/>
            <a:ext cx="78138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一、红外线概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08" name="Picture 4" descr="8cf0d5130a914130dc54017d"/>
          <p:cNvPicPr/>
          <p:nvPr/>
        </p:nvPicPr>
        <p:blipFill>
          <a:blip r:embed="rId1"/>
          <a:stretch/>
        </p:blipFill>
        <p:spPr>
          <a:xfrm>
            <a:off x="1403280" y="836640"/>
            <a:ext cx="7272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单片机的连接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1042920" y="2852640"/>
          <a:ext cx="810108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8101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6"/>
          <p:cNvSpPr/>
          <p:nvPr/>
        </p:nvSpPr>
        <p:spPr>
          <a:xfrm>
            <a:off x="1384200" y="5954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状态（空闲状态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脚输出为高电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69" name="Object 4" descr=""/>
          <p:cNvPicPr/>
          <p:nvPr/>
        </p:nvPicPr>
        <p:blipFill>
          <a:blip r:embed="rId1"/>
          <a:stretch/>
        </p:blipFill>
        <p:spPr>
          <a:xfrm>
            <a:off x="-1619280" y="5013360"/>
            <a:ext cx="4678560" cy="234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电平格式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注意：接收代码与发射代码反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468360" y="4735440"/>
            <a:ext cx="6048360" cy="2222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Object 8" descr=""/>
          <p:cNvPicPr/>
          <p:nvPr/>
        </p:nvPicPr>
        <p:blipFill>
          <a:blip r:embed="rId3"/>
          <a:stretch/>
        </p:blipFill>
        <p:spPr>
          <a:xfrm>
            <a:off x="2700360" y="4653000"/>
            <a:ext cx="705312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10" descr=""/>
          <p:cNvPicPr/>
          <p:nvPr/>
        </p:nvPicPr>
        <p:blipFill>
          <a:blip r:embed="rId4"/>
          <a:stretch/>
        </p:blipFill>
        <p:spPr>
          <a:xfrm>
            <a:off x="1619280" y="2889360"/>
            <a:ext cx="4896000" cy="1979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12" descr=""/>
          <p:cNvPicPr/>
          <p:nvPr/>
        </p:nvPicPr>
        <p:blipFill>
          <a:blip r:embed="rId5"/>
          <a:stretch/>
        </p:blipFill>
        <p:spPr>
          <a:xfrm>
            <a:off x="3706920" y="2924280"/>
            <a:ext cx="5905440" cy="1846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Object 15" descr=""/>
          <p:cNvPicPr/>
          <p:nvPr/>
        </p:nvPicPr>
        <p:blipFill>
          <a:blip r:embed="rId6"/>
          <a:stretch/>
        </p:blipFill>
        <p:spPr>
          <a:xfrm>
            <a:off x="-1762200" y="3213000"/>
            <a:ext cx="48182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、收编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26920" y="3060720"/>
            <a:ext cx="8137800" cy="3247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13"/>
          <p:cNvPicPr/>
          <p:nvPr/>
        </p:nvPicPr>
        <p:blipFill>
          <a:blip r:embed="rId2"/>
          <a:stretch/>
        </p:blipFill>
        <p:spPr>
          <a:xfrm>
            <a:off x="8604360" y="6345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到的（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输出的）数据帧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865080" y="3816360"/>
            <a:ext cx="831528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836360" y="6021360"/>
            <a:ext cx="41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数据输出低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1995120" y="1054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971640" y="2643120"/>
            <a:ext cx="758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码的关键是如何识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位的定义可以发现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均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低电平开始，不同的是高电平的宽度不同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,“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8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所以必须根据高电平的宽度区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116000" y="2826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解码过程具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初始化外部中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为下降沿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入外部中断服务程序，关闭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引导码进行判断。如果引导码正确，准备接收下面的一     帧遥控数据，以查询方式判断遥控的数据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非引导码，则退出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116000" y="31917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先后依次接收地址码、地址反码、数据码、数据反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接收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数据时，说明一帧数据接收完毕。比较数据码和数据反码，若数据码取反后与数据反码不同，则表示为无效数据，应放弃本次接收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开启外部中断，准备下一次遥控接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询方式与上述过程中的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致，这里不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792720" y="370080"/>
            <a:ext cx="7698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4797360"/>
            <a:ext cx="7777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可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T0(TCON.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选择其为低电平有效还是下降沿有效。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检测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引脚上出现有效的中断信号时，中断标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E0(TCON.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申请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434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01680" y="1752480"/>
            <a:ext cx="4191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10" descr=""/>
          <p:cNvPicPr/>
          <p:nvPr/>
        </p:nvPicPr>
        <p:blipFill>
          <a:blip r:embed="rId1"/>
          <a:stretch/>
        </p:blipFill>
        <p:spPr>
          <a:xfrm>
            <a:off x="5724360" y="5738760"/>
            <a:ext cx="136872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Oval 4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39640" y="620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时器工作方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计数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ject 8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32720" cy="31795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539640" y="5661000"/>
            <a:ext cx="5256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个数与计数初值的关系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17560" y="685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二、红外遥控技术简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无线、非接触控制技术，体积小，功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低，功能强，成本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用：１、家用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２、玩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业设备（高压、辐射、有毒、粉尘等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数器应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始化程序应完成如下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工作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初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将其写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断方式时，则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开放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位，启动定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定时或计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878120" y="380880"/>
            <a:ext cx="538776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实验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片机最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00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接收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D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指示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619280" y="2357280"/>
            <a:ext cx="59054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ISP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在线编程接口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S232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通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15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系统组成及编码分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射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盘、编码调制、红外发送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电转换放大器、解调、解码电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编码分类：主要分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340000" y="256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格式的特征：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载波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引导码间隔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s + 4.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客户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数据代码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取反的数据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波形是从红外接收头上得到的波形：（调制信号转变成高低电平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856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856944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帧结构（组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720720" y="2924280"/>
          <a:ext cx="94680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924280"/>
                    <a:ext cx="9468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-1187280" y="3284640"/>
          <a:ext cx="6619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7280" y="3284640"/>
                    <a:ext cx="661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2050920" y="3384720"/>
          <a:ext cx="771552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384720"/>
                    <a:ext cx="77155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8" descr="12"/>
          <p:cNvPicPr/>
          <p:nvPr/>
        </p:nvPicPr>
        <p:blipFill>
          <a:blip r:embed="rId5"/>
          <a:stretch/>
        </p:blipFill>
        <p:spPr>
          <a:xfrm>
            <a:off x="8317080" y="6021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48:08Z</dcterms:created>
  <dc:creator>User</dc:creator>
  <dc:description/>
  <dc:language>en-US</dc:language>
  <cp:lastModifiedBy>微软用户</cp:lastModifiedBy>
  <cp:lastPrinted>1899-12-30T00:00:00Z</cp:lastPrinted>
  <dcterms:modified xsi:type="dcterms:W3CDTF">2012-02-08T18:11:46Z</dcterms:modified>
  <cp:revision>26</cp:revision>
  <dc:subject/>
  <dc:title>红外遥控的单片机解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